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D36-EFAD-4009-B91E-A43D99DC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etal_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biology.50megs.com/Fg1511x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306-60DA-4C1C-86AF-20486EBC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D07-471C-41E9-8B71-92EE5ED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D9A-4319-49D0-970A-4CF45BB9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23C-6B19-4FC5-A43B-9E4EE9E3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B98-1823-481F-979F-F3A53DEF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280-F0B7-4668-B2B7-9A58109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CB8-368B-4458-B5F1-A24A952C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2C8-360E-4873-9344-F95A4F10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C51-8935-4AE8-8E63-B82C0D9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1D5-6717-49F6-9DE4-9860EE3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302-2541-45DF-9392-D292573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9F6-628A-4472-918E-D393C36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44D-1B0E-476B-83AD-F5B0C185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tal Pig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3C - December 1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71840" y="609480"/>
            <a:ext cx="399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876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609480"/>
            <a:ext cx="4790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6640" y="609480"/>
            <a:ext cx="5130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1:23:59Z</dcterms:created>
  <dc:creator>rubina khan</dc:creator>
  <dc:description/>
  <dc:language>en-US</dc:language>
  <cp:lastModifiedBy>rubina khan</cp:lastModifiedBy>
  <dcterms:modified xsi:type="dcterms:W3CDTF">2012-12-17T02:47:46Z</dcterms:modified>
  <cp:revision>6</cp:revision>
  <dc:subject/>
  <dc:title>Fetal Pig Dissection</dc:title>
</cp:coreProperties>
</file>